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DE477-538F-4005-BF5C-D4BB2E16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25E5B-4A93-4E5F-A1E2-7FA98C76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221DA-2241-4C9C-86CD-E9043D9C6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A7251-798F-4D14-B441-BE923EF5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1968-AB53-4950-9DE5-CA5B8449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9371-0A00-437D-92DB-8D3C4DCF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9915-D498-4E22-AE80-59735A12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BF7D-7E69-41D2-BC77-0EAB336A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257E-5371-408E-8444-AD57A07E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EF87-1039-430E-B749-4D73C137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6EFC-D3D5-433B-BEC8-37D46AC1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3E2EB-5E7D-4812-B41A-5B63D979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5E11-2D05-4B68-AE04-94EE8B78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39F3-2B02-4124-A34E-FE7EAC5F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D55D-DF69-4D0D-8BD6-55C54A46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C073-3CEF-44BE-91EF-9BEAFC73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C69F-3EB6-4ED1-939D-06150ABAA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D6F7A-8FC1-40BD-A0E0-61EC3C0F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07E81-C0C2-4D1F-881C-6E75C855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C2C45-0569-4EAE-9AD5-6434CDAB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1EAD6-FABF-4664-8D00-47F699F4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3EB8A-E484-4A12-AA1E-C6304947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35B43-2E35-40AF-882A-2817E3A2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B63E6-F8CE-4A77-B598-FAC376CA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641B-D9F2-463A-B208-48B856050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F8C4-09A2-4874-90B6-607A60CBB2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org/wiki/File:JROppenheimer-LosAlamos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org/wiki/File:Trinity_Test_Fireball_16ms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at_man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en.wikipedia.org/wiki/File:Little_boy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The End of World War II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opping the Bo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SS Missour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1" name="Picture 5" descr="File:Douglas MacArthur signs formal surrender.jpg"/>
          <p:cNvPicPr/>
          <p:nvPr/>
        </p:nvPicPr>
        <p:blipFill>
          <a:blip r:embed="rId1"/>
          <a:stretch/>
        </p:blipFill>
        <p:spPr>
          <a:xfrm>
            <a:off x="1295280" y="1219320"/>
            <a:ext cx="6340680" cy="453384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7"/>
          <p:cNvSpPr/>
          <p:nvPr/>
        </p:nvSpPr>
        <p:spPr>
          <a:xfrm>
            <a:off x="1371600" y="609588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uglas Macarthur at the Peace Treaty Signing in Jap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Manhattan Projec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as a fear that the Nazi’s would develop and use an atomic bomb on the 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ere 30 sites across the country that were working on development of a nuclear device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nal testing location was Los Alamos, New Mex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ead Scientists/Enginee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bert Oppenhei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 the lead researcher for the development of the atomic bom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the creation of it he worked hard against the use of it in w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Picture 5" descr="Head and shoulders portrai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1752480"/>
            <a:ext cx="2992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rinity Tes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nity was the code name for the final test of the atomic bomb in New Mex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5" descr="Trinity Test Fireball 16m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05520" y="1981080"/>
            <a:ext cx="373356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at Man and Little Bo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5" name="Picture 5" descr="Fat ma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905120"/>
            <a:ext cx="3175200" cy="210816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7"/>
          <p:cNvSpPr/>
          <p:nvPr/>
        </p:nvSpPr>
        <p:spPr>
          <a:xfrm>
            <a:off x="1295280" y="4419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t 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Picture 9" descr="Little boy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1676520"/>
            <a:ext cx="3809880" cy="250164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11"/>
          <p:cNvSpPr/>
          <p:nvPr/>
        </p:nvSpPr>
        <p:spPr>
          <a:xfrm>
            <a:off x="5715000" y="4419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ttle Bo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nola Ga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-29 Super Fortress Piloted by Paul Tibbits.  It was named after his mother.  It dropped “Little Boy” on Hiroshi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Picture 5" descr="400px-050607-F-1234P-090"/>
          <p:cNvPicPr/>
          <p:nvPr/>
        </p:nvPicPr>
        <p:blipFill>
          <a:blip r:embed="rId2"/>
          <a:stretch/>
        </p:blipFill>
        <p:spPr>
          <a:xfrm>
            <a:off x="914400" y="3352680"/>
            <a:ext cx="723888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iroshim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03884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tle Boy explodes and destroys 70% of Hiroshima, causing 90,000 immediate deaths and as many as 166,000 within the first four months after the bomb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Picture 9" descr="File:AtomicEffects-Hiroshima.jpg"/>
          <p:cNvPicPr/>
          <p:nvPr/>
        </p:nvPicPr>
        <p:blipFill>
          <a:blip r:embed="rId2"/>
          <a:stretch/>
        </p:blipFill>
        <p:spPr>
          <a:xfrm>
            <a:off x="4114800" y="1523880"/>
            <a:ext cx="480060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agasak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ginally the bomb was to be dropped on Kokura, Japan.  Cloud cover redirected the plane to Nagasa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 Man was dropped on Nagasaki, Japan killing almost 80,000.  It missed it’s target by 2 mi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Picture 4" descr="200px-Nagasakibomb"/>
          <p:cNvPicPr/>
          <p:nvPr/>
        </p:nvPicPr>
        <p:blipFill>
          <a:blip r:embed="rId3"/>
          <a:stretch/>
        </p:blipFill>
        <p:spPr>
          <a:xfrm>
            <a:off x="5410080" y="1676520"/>
            <a:ext cx="33163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threats of continued use of atomic weapons on Japanese c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 days later the Japanese government accepted an unconditional surrender ending World War I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2T23:16:06Z</dcterms:created>
  <dc:creator>Gritman</dc:creator>
  <dc:description/>
  <dc:language>en-US</dc:language>
  <cp:lastModifiedBy>Sacerdote, Kevin R.</cp:lastModifiedBy>
  <dcterms:modified xsi:type="dcterms:W3CDTF">2017-02-07T17:13:14Z</dcterms:modified>
  <cp:revision>2</cp:revision>
  <dc:subject/>
  <dc:title>The End of World War II</dc:title>
</cp:coreProperties>
</file>